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B6C1-15A6-474F-B386-A8D99B927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95F0-A705-491A-A6BE-5C4C583070F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PA is an agency of the United States Department of Defense responsible for the new technology development for use by the military. 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initial purpose is to find ways to address the US military’s concern about survivability of their communication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 1970s ARPANET became the foundation of today’s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Vinton Cerf and Robert Kahn developed the first description of TCP during 1973, and then in May 1974 the first formal description was publis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ICPA : American Institute of Certified Public Accoun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024B-B46A-4D3E-ADED-A09BA9476F1D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*) : by Carol L. Cook; “How Computers Have Simplified Accounting”; http://www.yale.edu/ynhti/curriculum/units/1989/7/89.07.06.x.html#e; 18/05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3D00-9558-4E61-9768-02230C3AE565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*) : by Carol L. Cook; “How Computers Have Simplified Accounting”; http://www.yale.edu/ynhti/curriculum/units/1989/7/89.07.06.x.html#e; 18/05/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8453-CDA9-4780-8360-BF95627F4CC5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C25A-9F61-4F7F-9A76-980AA1CC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5E64-60CC-4271-99BE-A3C5F3DC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5C56-2312-4FBA-91C9-AE1068B6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C95A-4ADE-408C-A99B-982A0F04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23B8-B526-41B9-8081-F22A6715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5484-9FD5-4607-90D0-6D3BC0DF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DDF0-40FE-4B6A-838D-16B9EF18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6C37-95A9-4E08-A4E0-6DAA083E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A848-4EB6-4D14-820E-B6F1C64E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9D96-2244-480B-B317-26AD2976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3E1C-AC72-4AEA-A776-B5EABA19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F1C-A3EA-42A7-B275-386003C9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B996-02A8-41A7-880F-8BD0C641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81FB-6FD4-4977-8530-599CEC0B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AB4B-5FF3-46BE-A40D-58FF5A5F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2313-E782-48F5-99FA-B5F1C9D0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8AE7-BD1A-48D1-8178-B5AB6E61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D3CC-D501-4AD3-BA32-D614DEA5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2C9-E4EC-451C-8751-5F52287A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742D-4A05-4852-AE4A-943AD253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0B4F-0AEA-4B81-8BF9-5BAC082B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CB6-766B-4008-9640-B2C1728E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B6BA-FEA1-4D42-9D7D-A77D12B9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6FAA-95D5-454F-A6F5-7B82B0CB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6E19-7BAD-4C91-8D47-2D41EA819CD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A969-65D5-48AA-BFEE-A775A173352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66"/>
                </a:solidFill>
                <a:latin typeface="Arial"/>
              </a:rPr>
              <a:t>The effects of Internet on business</a:t>
            </a:r>
            <a:endParaRPr b="1" lang="en-US" sz="5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ablo, Duy and Ta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C587-C51B-498D-B152-D7F5B7A4CEA8}" type="datetime">
              <a:rPr b="0" lang="en-US" sz="2800" spc="-1" strike="noStrike">
                <a:solidFill>
                  <a:srgbClr val="006666"/>
                </a:solidFill>
                <a:latin typeface="Arial"/>
              </a:rPr>
              <a:t>07/29/26</a:t>
            </a:fld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E-Commer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Widely applied in business fiel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Fu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unpredictable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wikipedia.or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10/05/201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71640" y="3716280"/>
            <a:ext cx="65419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ANK YOU FOR LISTENING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.=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pirate63"/>
          <p:cNvPicPr/>
          <p:nvPr/>
        </p:nvPicPr>
        <p:blipFill>
          <a:blip r:embed="rId1"/>
          <a:stretch/>
        </p:blipFill>
        <p:spPr>
          <a:xfrm>
            <a:off x="6051600" y="0"/>
            <a:ext cx="2913120" cy="37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et Introd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ern u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rnet Int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et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PA (Advanced Research Project Agenc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undation of 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RPA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 (Transmission Control Protoco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ne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rn U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ACCOU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E-COMMER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cou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Accounting descri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Old meth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Use of computer and internet in Accou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What is Account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AR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record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lassify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ummariz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a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significant manner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 in terms of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mone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transac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even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hich are, in part at least, of </a:t>
            </a:r>
            <a:r>
              <a:rPr b="0" lang="en-US" sz="3200" spc="-1" strike="noStrike">
                <a:solidFill>
                  <a:srgbClr val="3c653c"/>
                </a:solidFill>
                <a:latin typeface="Arial"/>
              </a:rPr>
              <a:t>financial charac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3c653c"/>
                </a:solidFill>
                <a:latin typeface="Arial"/>
              </a:rPr>
              <a:t>interpreting the results thereo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(AICP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5" descr="MoneyChart.jpg"/>
          <p:cNvPicPr/>
          <p:nvPr/>
        </p:nvPicPr>
        <p:blipFill>
          <a:blip r:embed="rId1"/>
          <a:stretch/>
        </p:blipFill>
        <p:spPr>
          <a:xfrm>
            <a:off x="5572080" y="214200"/>
            <a:ext cx="3286080" cy="1704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nual Accou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bookkeeper kept the journals, the accounts receivable, the accounts payable and the ledgers in his best possible penmanship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(*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6" descr="Accounting[1].jpg"/>
          <p:cNvPicPr/>
          <p:nvPr/>
        </p:nvPicPr>
        <p:blipFill>
          <a:blip r:embed="rId1"/>
          <a:stretch/>
        </p:blipFill>
        <p:spPr>
          <a:xfrm>
            <a:off x="1357200" y="3929040"/>
            <a:ext cx="707256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Computerise Accou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e of the first accounting programs was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Lot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1-2-3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1983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mall test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(*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00080" y="4000680"/>
          <a:ext cx="7786800" cy="2641320"/>
        </p:xfrm>
        <a:graphic>
          <a:graphicData uri="http://schemas.openxmlformats.org/drawingml/2006/table">
            <a:tbl>
              <a:tblPr/>
              <a:tblGrid>
                <a:gridCol w="3857760"/>
                <a:gridCol w="392904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-don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2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 minutes to set u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 minutes to perform the computation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 seconds to load the spreadshe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minutes to input the information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ss than one second for it to be tabulated and print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rnet and Accou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0:15:27Z</dcterms:created>
  <dc:creator>Microsoft</dc:creator>
  <dc:description/>
  <dc:language>en-US</dc:language>
  <cp:lastModifiedBy>ict</cp:lastModifiedBy>
  <dcterms:modified xsi:type="dcterms:W3CDTF">2010-05-23T16:02:12Z</dcterms:modified>
  <cp:revision>29</cp:revision>
  <dc:subject/>
  <dc:title>Internet</dc:title>
</cp:coreProperties>
</file>